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DF9-7BC4-4E40-B751-D9674C25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FD4-83BD-4CED-BF60-552E8FF1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2D5D-A580-487F-BCE9-55CDB107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ECA0-59AE-482A-8F11-FF8582EA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6FD-0B1B-490D-B90B-A63C37AB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BA4F-1CF8-494A-8AA7-DCE2D6A3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189A-5F19-4027-B361-EE773485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F0D-BEC8-4340-9C8B-29635A8E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1EC-855C-406C-84B3-64D2D08B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E8C-5585-41A3-981B-F870BAAB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268-55A0-4237-AC75-77F7CA0E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5A3-502A-4B94-A7D0-63AEBF0E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CC6D-6643-4D8C-A9FF-68D043EBA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e22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579096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ngible and Intangible Ri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133720"/>
            <a:ext cx="2590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gible ri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wing F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0" y="2209680"/>
            <a:ext cx="19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angible Ri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th of spi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pp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78408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71600" y="35812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038480" y="3048120"/>
            <a:ext cx="2171880" cy="1847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562720" y="4830840"/>
            <a:ext cx="20127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0:32:21Z</dcterms:created>
  <dc:creator>Ken Robinson</dc:creator>
  <dc:description/>
  <dc:language>en-US</dc:language>
  <cp:lastModifiedBy>Ken Robinson</cp:lastModifiedBy>
  <dcterms:modified xsi:type="dcterms:W3CDTF">2011-11-30T00:45:10Z</dcterms:modified>
  <cp:revision>3</cp:revision>
  <dc:subject/>
  <dc:title>Tangible and Intangible Riches</dc:title>
</cp:coreProperties>
</file>